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0C8-1D3F-4557-BF63-C3793BBB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D32-5E6E-4933-87E8-8F776CF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DFF-330D-4546-926A-26576BD8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424-DCE8-4012-A154-EC16E73B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39A-273D-4EFB-B67B-2CF95B2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CC0-D45B-4842-870B-3FB7EBD5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4E5-70A4-41D1-B9A3-C74E93C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B8D-0B83-4B62-A3C9-5C3FD3E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1D2-7AA7-46A3-8F27-8CDE382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B3D-E0C1-442F-854C-D052FA5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F64-62E7-4181-BDCC-51B1ABC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68B-9AC1-4ACE-99DC-4AE9CBA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D565-6F8B-4674-906F-41EA7A2FC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INTRODUCTION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TO</a:t>
            </a:r>
            <a:br>
              <a:rPr sz="5400"/>
            </a:br>
            <a:r>
              <a:rPr b="1" lang="en-US" sz="5400" spc="-1" strike="noStrike">
                <a:solidFill>
                  <a:srgbClr val="4618c6"/>
                </a:solidFill>
                <a:latin typeface="Times New Roman"/>
              </a:rPr>
              <a:t>EPI STUDY DESIGNS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760" y="3576600"/>
            <a:ext cx="693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Experimental versus Observation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Directionality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iming of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Clinical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4618c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Overview of observational designs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6212"/>
          <a:stretch/>
        </p:blipFill>
        <p:spPr>
          <a:xfrm>
            <a:off x="762120" y="18288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61979" r="0" b="8447"/>
          <a:stretch/>
        </p:blipFill>
        <p:spPr>
          <a:xfrm>
            <a:off x="762120" y="3657600"/>
            <a:ext cx="7315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73911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7391160" cy="289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637080" y="2209680"/>
            <a:ext cx="1600200" cy="1535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95480" y="2133720"/>
            <a:ext cx="546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237280" y="2438280"/>
            <a:ext cx="1562040" cy="117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010280" y="2209680"/>
            <a:ext cx="927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784" t="0" r="0" b="81844"/>
          <a:stretch/>
        </p:blipFill>
        <p:spPr>
          <a:xfrm>
            <a:off x="1143000" y="914400"/>
            <a:ext cx="70102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28796" r="35878" b="0"/>
          <a:stretch/>
        </p:blipFill>
        <p:spPr>
          <a:xfrm>
            <a:off x="1143000" y="1828800"/>
            <a:ext cx="7010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391520" cy="181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64714" r="0" b="0"/>
          <a:stretch/>
        </p:blipFill>
        <p:spPr>
          <a:xfrm>
            <a:off x="914400" y="525780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5085" r="-1069" b="0"/>
          <a:stretch/>
        </p:blipFill>
        <p:spPr>
          <a:xfrm>
            <a:off x="838080" y="3962520"/>
            <a:ext cx="7696440" cy="25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54843" t="24647" r="0" b="53559"/>
          <a:stretch/>
        </p:blipFill>
        <p:spPr>
          <a:xfrm>
            <a:off x="4800600" y="152388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843" t="35544" r="0" b="53559"/>
          <a:stretch/>
        </p:blipFill>
        <p:spPr>
          <a:xfrm>
            <a:off x="4800600" y="3124080"/>
            <a:ext cx="3200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5280" y="4952880"/>
            <a:ext cx="28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93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0492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Observational Study Desig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84582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Times New Roman"/>
              </a:rPr>
              <a:t>There are three general categories of observational de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Basic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ohort, Case-Control, Cross-S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Hybrid Designs: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Case-Cohort, Nested Case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f1f1d"/>
                </a:solidFill>
                <a:latin typeface="Times New Roman"/>
              </a:rPr>
              <a:t>Incomplete Desig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a800"/>
                </a:solidFill>
                <a:latin typeface="Times New Roman"/>
              </a:rPr>
              <a:t>Ecologic,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86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1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3T17:47:45Z</dcterms:modified>
  <cp:revision>108</cp:revision>
  <dc:subject/>
  <dc:title>Intro to Epi Study Designs</dc:title>
</cp:coreProperties>
</file>